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226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FAE-8F6A-4110-A5D6-8726E07C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57E-5579-47CB-A4CB-4F58DC0B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59B-D143-43D9-B87D-97969FAA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68D-77F7-4F27-84D2-1FD60174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3564-ED39-419A-A468-9AFFE3AB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60B9-6B14-4A21-9DCF-89E4FA7E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3E80-C896-4546-BAE9-6D9FD8D6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DC17-E9A6-4444-9C28-E57F95F4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1712-53EE-4EE4-8445-ABBC191F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E8D1-5181-45B0-A77D-301E24E7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A1F6-1557-4A62-A147-DB81353C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D09-8B42-4286-9415-C3BEE4F4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2FC3-16D0-4DB7-BE64-38637B88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6D76-C3A3-4504-967B-9F9818AF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08B1-3C39-451F-8ABC-A82F91D0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5626-FC1F-4554-8824-1F80A7E3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C957-2F3A-46BA-99E8-C04A26B0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A15A-A2F0-486B-8064-381AAF79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D65-BADC-4393-9D3C-266E2021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A78-82DF-406E-8AAA-73CD50B2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289-6495-41AE-B830-C1BC932A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3F5-67D5-4F77-A237-2583C79E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FE4-BFC7-436B-AAAC-C35F3EEE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648-E05D-4B20-9FC5-57CD0B08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89C9-56EC-4B85-A645-097938D75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9614-4CA6-49C7-B77F-EF3D20DFD6E8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047760" y="53341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AS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7162920" y="4572000"/>
            <a:ext cx="1512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8.69565E-007 C -0.12013 -0.02312 -0.12725 0.02221 -0.14062 -0.07701 C -0.13923 -0.09944 -0.13888 -0.11424 -0.13472 -0.13714 C -0.13298 -0.14616 -0.12378 -0.15055 -0.11875 -0.15633 C -0.10364 -0.17252 -0.08854 -0.18779 -0.07239 -0.20282 C -0.06597 -0.20837 -0.05694 -0.20652 -0.0493 -0.20837 C -0.04045 -0.21415 -0.03125 -0.21831 -0.02309 -0.22571 C -0.02517 -0.23335 -0.02673 -0.23658 -0.03177 -0.24121 C -0.03697 -0.25138 -0.04305 -0.25416 -0.05069 -0.2604 C -0.06111 -0.26919 -0.07447 -0.28376 -0.08697 -0.28746 C -0.09357 -0.28954 -0.10052 -0.29001 -0.10729 -0.29139 C -0.12048 -0.29995 -0.12934 -0.29949 -0.14496 -0.30296 C -0.15173 -0.30458 -0.15833 -0.30735 -0.1651 -0.30874 C -0.17951 -0.31174 -0.19409 -0.31406 -0.20868 -0.3166 C -0.25798 -0.32493 -0.30729 -0.33325 -0.35642 -0.34366 C -0.37118 -0.35337 -0.36493 -0.3469 -0.37534 -0.36077 C -0.37864 -0.37951 -0.37465 -0.38714 -0.3651 -0.39963 C -0.36232 -0.4031 -0.36163 -0.40865 -0.35937 -0.41304 C -0.35642 -0.41882 -0.35138 -0.42692 -0.34774 -0.43247 C -0.33975 -0.44403 -0.33107 -0.45351 -0.3217 -0.46322 C -0.31406 -0.47109 -0.3085 -0.47687 -0.30138 -0.48635 C -0.3 -0.4882 -0.29704 -0.49213 -0.29704 -0.49213 C -0.29218 -0.51248 -0.32465 -0.5252 -0.33472 -0.53261 C -0.35694 -0.54903 -0.38506 -0.55388 -0.41006 -0.56151 C -0.43524 -0.56938 -0.45989 -0.57701 -0.48541 -0.58279 C -0.5052 -0.59343 -0.47534 -0.57816 -0.51875 -0.5925 C -0.52378 -0.59412 -0.52812 -0.59921 -0.53333 -0.60014 C -0.54097 -0.60152 -0.54878 -0.60268 -0.55642 -0.60407 C -0.56892 -0.61239 -0.58194 -0.6228 -0.59565 -0.62719 C -0.60902 -0.63136 -0.63611 -0.63876 -0.63611 -0.63876 C -0.64392 -0.64569 -0.65173 -0.6531 -0.66076 -0.6561 C -0.66875 -0.66327 -0.67309 -0.66697 -0.68263 -0.66975 C -0.69131 -0.67576 -0.70052 -0.67853 -0.71006 -0.68131 C -0.71354 -0.68224 -0.72031 -0.68524 -0.72031 -0.68524 E">
                                      <p:cBhvr>
                                        <p:cTn id="12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UNITS FOR PRESSUR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n the metric system, we measure forces in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Newtons  (N):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 equal to 1 kg m/sec</a:t>
            </a:r>
            <a:r>
              <a:rPr b="1" lang="en-US" sz="2400" spc="-1" strike="noStrike" baseline="30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; but that’s a unit for force, not pressure since pressure is dependent on </a:t>
            </a:r>
            <a:r>
              <a:rPr b="1" i="1" lang="en-US" sz="2400" spc="-1" strike="noStrike">
                <a:solidFill>
                  <a:srgbClr val="f8f8f8"/>
                </a:solidFill>
                <a:latin typeface="Tahoma"/>
              </a:rPr>
              <a:t>area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a)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ascal (Pa):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a pressure of 1 N/m</a:t>
            </a:r>
            <a:r>
              <a:rPr b="1" lang="en-US" sz="2400" spc="-1" strike="noStrike" baseline="30000">
                <a:solidFill>
                  <a:srgbClr val="f8f8f8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(kilopascals, (kPa) will be used  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b)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m Hg (torr)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= Torricelli's column of mercury rose 760mm at sea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c)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tmospheres (atm)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= average air pressure at sea level at 0</a:t>
            </a:r>
            <a:r>
              <a:rPr b="1" lang="en-US" sz="24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C  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d)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ounds per square inch (psi)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= (or inches, as in weather) Non-metric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TANDARD AIR PRESS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Defined = average air pressure at sea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at 0</a:t>
            </a:r>
            <a:r>
              <a:rPr b="1" lang="en-US" sz="24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C    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1 atm  =  101.3 kPa  =  760 mm Hg =   760 torr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Tahoma"/>
              </a:rPr>
              <a:t>(memorize these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Concept: Hg is poured into a tube.  Outside air pressure will make the Hg in the tube rise &amp; fall.   (This would happen with any liquid but Hg is good since it is so dense and would therefore not move so dramatical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VACUUM PUMP DE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447920"/>
          <a:ext cx="7772400" cy="4195800"/>
        </p:xfrm>
        <a:graphic>
          <a:graphicData uri="http://schemas.openxmlformats.org/drawingml/2006/table">
            <a:tbl>
              <a:tblPr/>
              <a:tblGrid>
                <a:gridCol w="2679840"/>
                <a:gridCol w="2501640"/>
                <a:gridCol w="259092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Observed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Explained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Balloon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Marshmallow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Mousse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Beaker of Water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MISCELLANEOUS DE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5800" y="1397160"/>
          <a:ext cx="7924680" cy="432720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320"/>
              </a:tblGrid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Observed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Explained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Aluminum Can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Balloon in Flask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Weather Manometer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Wine Bottle Opener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MISCELLANEOUS DE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5800" y="1397160"/>
          <a:ext cx="7924680" cy="446076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32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Observed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Explained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Fire Syringe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Balloon in Hot Water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Florence Flask and Balloon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Hard-Boiled Egg in Bottle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MANOMET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Manometers – devices which measure gas pressur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wo types of manometers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Open and Closed (see handout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EMPERATURE AND GASES</a:t>
            </a: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temperature is a measure of K.E. (</a:t>
            </a:r>
            <a:r>
              <a:rPr b="1" i="1" lang="en-US" sz="2800" spc="-1" strike="noStrike">
                <a:solidFill>
                  <a:srgbClr val="f8f8f8"/>
                </a:solidFill>
                <a:latin typeface="Tahoma"/>
              </a:rPr>
              <a:t>not a measure of heat!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Kelvin scale - based on "absolute zero" = which is -273.15 </a:t>
            </a:r>
            <a:r>
              <a:rPr b="1" lang="en-US" sz="28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 and is the T at which all molecular motion stop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absolute zero is a THEORETICAL POINT ONLY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K = </a:t>
            </a:r>
            <a:r>
              <a:rPr b="1" lang="en-US" sz="28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 + 273      (K= "kelvins", not degrees kelvin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the K scale is used since it will never have negative valu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FORMUL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 = 5/9 (F - 32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 = (9/5 C) + 32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K = C + 273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 = K - 273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562720" y="3124080"/>
            <a:ext cx="2743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8 C = _____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520 K = _____C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10 C = _____ 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NERGY FLO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HEAT is a form of energ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nergy always flows from a hotter object to a colder on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Heat measured in joul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vogadro’s Principle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At equal T's and P's, equal V's of gases contain the same # of molecules"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"n" relates to the number of moles of gas at constant T and P, if V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=V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, then n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= n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DEFINI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Gas: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a compound or element whose molecules or atoms are far apart and have much freedom of movement; can undergo diffusio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Diffusion: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the spontaneous, even mixing of a gas with other gases as gases move from areas of high concentration to low concentration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Miscibility:</a:t>
            </a: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gases are infinitely miscible (“mix-able”) and form soln's w/other gases quickly and easily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DEAL G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an imaginary gas that serves as a model only and does not factor in real-life conditions, such as V and attractive F'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STP = "standard temp and pressure"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T = 273 K (which is 0</a:t>
            </a:r>
            <a:r>
              <a:rPr b="1" lang="en-US" sz="28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P = 1 atm = 101.3 kPa = 760 mm Hg = 760 tor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deal Gas Equ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  V   =   n  R  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omes from Boyle's Law, Charles's Law, &amp; molar volu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f we substitute in all standard conditions, we can solve for "R"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ving for 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P  V   =   n  R  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Rearrange to solve for 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R = PV / n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990720" y="3657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R = (1 atm)(22.4 L) / (1 mol)(273 K)  = 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990720" y="4343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R = (101.3 kPa)(22.4 L) / (1 mol)(273 K) =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990720" y="51055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R = (760 torr)(22.4 L) / (1 mol)(273 K)  =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019920" y="3657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____  L</a:t>
            </a:r>
            <a:r>
              <a:rPr b="1" lang="en-US" sz="2400" spc="-1" strike="noStrike" baseline="30000">
                <a:solidFill>
                  <a:srgbClr val="ff66ff"/>
                </a:solidFill>
                <a:latin typeface="Times New Roman"/>
              </a:rPr>
              <a:t>.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Times New Roman"/>
              </a:rPr>
              <a:t>atm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/mol 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324480" y="4343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___ L</a:t>
            </a:r>
            <a:r>
              <a:rPr b="1" lang="en-US" sz="2400" spc="-1" strike="noStrike" baseline="30000">
                <a:solidFill>
                  <a:srgbClr val="00ffff"/>
                </a:solidFill>
                <a:latin typeface="Times New Roman"/>
              </a:rPr>
              <a:t>. </a:t>
            </a:r>
            <a:r>
              <a:rPr b="1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kPa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/mol 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324480" y="5105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___ L</a:t>
            </a:r>
            <a:r>
              <a:rPr b="1" lang="en-US" sz="2400" spc="-1" strike="noStrike" baseline="30000">
                <a:solidFill>
                  <a:srgbClr val="ffcc99"/>
                </a:solidFill>
                <a:latin typeface="Times New Roman"/>
              </a:rPr>
              <a:t>. </a:t>
            </a:r>
            <a:r>
              <a:rPr b="1" lang="en-US" sz="2400" spc="-1" strike="noStrike" u="sng">
                <a:solidFill>
                  <a:srgbClr val="ffcc99"/>
                </a:solidFill>
                <a:uFillTx/>
                <a:latin typeface="Times New Roman"/>
              </a:rPr>
              <a:t>torr</a:t>
            </a: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/mol 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586728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.082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324480" y="4343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.3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62485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2.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662940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Memorize The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Line 14"/>
          <p:cNvSpPr/>
          <p:nvPr/>
        </p:nvSpPr>
        <p:spPr>
          <a:xfrm flipH="1">
            <a:off x="6629400" y="2819520"/>
            <a:ext cx="914400" cy="83808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Line 15"/>
          <p:cNvSpPr/>
          <p:nvPr/>
        </p:nvSpPr>
        <p:spPr>
          <a:xfrm flipH="1">
            <a:off x="6781320" y="2895480"/>
            <a:ext cx="762120" cy="14479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Line 16"/>
          <p:cNvSpPr/>
          <p:nvPr/>
        </p:nvSpPr>
        <p:spPr>
          <a:xfrm flipH="1">
            <a:off x="6858000" y="2895480"/>
            <a:ext cx="838080" cy="21337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peat: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Memorize all of those values for R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3047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his crazy unit doesn't really exist as a measurable entity but is used for cancellation purpos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lecular Mass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what are the units for MM?    How can you use PV = nRT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an be found from lab measurements in this way: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MM  =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m R T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 V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e: What is the molecular mass of a gas if 150.0 cm</a:t>
            </a:r>
            <a:r>
              <a:rPr b="1" lang="en-US" sz="2800" spc="-1" strike="noStrike" baseline="30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 of it has a mass of 0.922 g at 99.0</a:t>
            </a:r>
            <a:r>
              <a:rPr b="1" lang="en-US" sz="28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 and 107.0 kPa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lecular Mass Problem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e: What is the molecular mass of a gas if 150.0 cm</a:t>
            </a:r>
            <a:r>
              <a:rPr b="1" lang="en-US" sz="3200" spc="-1" strike="noStrike" baseline="30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of it has a mass of 0.922 g at 99.0</a:t>
            </a:r>
            <a:r>
              <a:rPr b="1" lang="en-US" sz="32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 and 107.0 kPa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MM  =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m R T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    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 V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lar Volume @ST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1 mol of any gas occupies the same V as 1 mol of any other ga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molar volume = the V of 1 mole of a gas at STP = 22.4 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BOYLE'S LAW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Robert Boyle, 300 years ago, noted:    "if the T remains constant, the P exerted by a gas varies inversely with its V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e: A gas is collected in a 242 cm</a:t>
            </a:r>
            <a:r>
              <a:rPr b="1" lang="en-US" sz="2800" spc="-1" strike="noStrike" baseline="30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 container.  The P of the gas in the container is measured at 87.6 kPa.  What is the V of this gas at standard P (ASSUME T REMAINS CONSTANT!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24382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HARLES’ LA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"at constant P, as T increases, V increases" (or: T and V are </a:t>
            </a:r>
            <a:r>
              <a:rPr b="1" i="1" lang="en-US" sz="3200" spc="-1" strike="noStrike">
                <a:solidFill>
                  <a:srgbClr val="f8f8f8"/>
                </a:solidFill>
                <a:latin typeface="Tahoma"/>
              </a:rPr>
              <a:t>directly proportional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e:  a 225 cm</a:t>
            </a:r>
            <a:r>
              <a:rPr b="1" lang="en-US" sz="3200" spc="-1" strike="noStrike" baseline="30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V of gas is collected at 58.0</a:t>
            </a:r>
            <a:r>
              <a:rPr b="1" lang="en-US" sz="32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.  What V would this sample occupy at standard T (assume P = constant) *</a:t>
            </a:r>
            <a:r>
              <a:rPr b="1" i="1" lang="en-US" sz="3200" spc="-1" strike="noStrike">
                <a:solidFill>
                  <a:srgbClr val="f8f8f8"/>
                </a:solidFill>
                <a:latin typeface="Tahoma"/>
              </a:rPr>
              <a:t>T must be in K!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5" name="Picture 6" descr="char law equation.png"/>
          <p:cNvPicPr/>
          <p:nvPr/>
        </p:nvPicPr>
        <p:blipFill>
          <a:blip r:embed="rId1"/>
          <a:stretch/>
        </p:blipFill>
        <p:spPr>
          <a:xfrm>
            <a:off x="5410080" y="533520"/>
            <a:ext cx="2448000" cy="167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Content Placeholder 3" descr="char law diagram.jpg"/>
          <p:cNvPicPr/>
          <p:nvPr/>
        </p:nvPicPr>
        <p:blipFill>
          <a:blip r:embed="rId1"/>
          <a:stretch/>
        </p:blipFill>
        <p:spPr>
          <a:xfrm>
            <a:off x="1828800" y="685800"/>
            <a:ext cx="5726160" cy="38098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553760" y="4648320"/>
            <a:ext cx="610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Lucida Sans Unicode"/>
                <a:ea typeface="Lucida Sans Unicode"/>
              </a:rPr>
              <a:t>If temperature is doubled,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Lucida Sans Unicode"/>
                <a:ea typeface="Lucida Sans Unicode"/>
              </a:rPr>
              <a:t> </a:t>
            </a:r>
            <a:r>
              <a:rPr b="0" lang="en-US" sz="3600" spc="-1" strike="noStrike">
                <a:solidFill>
                  <a:srgbClr val="f8f8f8"/>
                </a:solidFill>
                <a:latin typeface="Lucida Sans Unicode"/>
                <a:ea typeface="Lucida Sans Unicode"/>
              </a:rPr>
              <a:t>the volume will double!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Lucida Sans Unicode"/>
                <a:ea typeface="Lucida Sans Unicode"/>
              </a:rPr>
              <a:t>DIRECTLY PROPORTIONAL!!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PROPERTIES OF GA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highly compressibl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an expand and condens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have indefinite shape (fill their container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low density (about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/100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the density of its liquid or solid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quick diffus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Content Placeholder 3" descr="cold balloon.jpg"/>
          <p:cNvPicPr/>
          <p:nvPr/>
        </p:nvPicPr>
        <p:blipFill>
          <a:blip r:embed="rId1"/>
          <a:stretch/>
        </p:blipFill>
        <p:spPr>
          <a:xfrm>
            <a:off x="1905120" y="457200"/>
            <a:ext cx="4829040" cy="2971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balloon and temp.jpg"/>
          <p:cNvPicPr/>
          <p:nvPr/>
        </p:nvPicPr>
        <p:blipFill>
          <a:blip r:embed="rId2"/>
          <a:stretch/>
        </p:blipFill>
        <p:spPr>
          <a:xfrm>
            <a:off x="2286000" y="3352680"/>
            <a:ext cx="426708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MP MUST BE IN KELVIN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Content Placeholder 3" descr="charles law graph.jpg"/>
          <p:cNvPicPr/>
          <p:nvPr/>
        </p:nvPicPr>
        <p:blipFill>
          <a:blip r:embed="rId1"/>
          <a:stretch/>
        </p:blipFill>
        <p:spPr>
          <a:xfrm>
            <a:off x="880920" y="1905120"/>
            <a:ext cx="7670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Content Placeholder 3" descr="temp in celsius graph.png"/>
          <p:cNvPicPr/>
          <p:nvPr/>
        </p:nvPicPr>
        <p:blipFill>
          <a:blip r:embed="rId1"/>
          <a:stretch/>
        </p:blipFill>
        <p:spPr>
          <a:xfrm>
            <a:off x="609480" y="685800"/>
            <a:ext cx="3845160" cy="2590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kelving graph.png"/>
          <p:cNvPicPr/>
          <p:nvPr/>
        </p:nvPicPr>
        <p:blipFill>
          <a:blip r:embed="rId2"/>
          <a:stretch/>
        </p:blipFill>
        <p:spPr>
          <a:xfrm>
            <a:off x="4952880" y="685800"/>
            <a:ext cx="3730680" cy="266688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304920" y="3657600"/>
            <a:ext cx="4343400" cy="1191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Temp is in </a:t>
            </a:r>
            <a:r>
              <a:rPr b="0" lang="en-US" sz="2400" spc="-1" strike="noStrike" baseline="30000">
                <a:solidFill>
                  <a:srgbClr val="f8f8f8"/>
                </a:solidFill>
                <a:latin typeface="Arial Black"/>
              </a:rPr>
              <a:t>o</a:t>
            </a: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C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NOT directly proportional!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Does not go thru origin!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4991040" y="3809880"/>
            <a:ext cx="3608280" cy="1191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Temp is in 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IS directly proportion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Does go thru the origin!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OMBINED GA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LA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ahoma"/>
              </a:rPr>
              <a:t>this is the one                                  to memorize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e: 10.0 cm</a:t>
            </a:r>
            <a:r>
              <a:rPr b="1" lang="en-US" sz="2800" spc="-1" strike="noStrike" baseline="30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 of a gas measured at 75.6 kPa and 60.0</a:t>
            </a:r>
            <a:r>
              <a:rPr b="1" lang="en-US" sz="28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 is to be corrected to correspond to the V it would occupy at STP.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4114800" y="1066680"/>
            <a:ext cx="438624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EXAMPL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648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e: the V of a gas measured at 75.6 kPa and 60.0</a:t>
            </a:r>
            <a:r>
              <a:rPr b="1" lang="en-US" sz="32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 is to be corrected to correspond to the V it would occupy at STP.  The measured V is 10.0 cm</a:t>
            </a:r>
            <a:r>
              <a:rPr b="1" lang="en-US" sz="3200" spc="-1" strike="noStrike" baseline="30000">
                <a:solidFill>
                  <a:srgbClr val="f8f8f8"/>
                </a:solidFill>
                <a:latin typeface="Tahoma"/>
              </a:rPr>
              <a:t>3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3090960" cy="14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657600" cy="30114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5410080" y="3581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.6 kP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410080" y="4343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.0 C +273K       = 333K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410080" y="2590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3733920" y="548640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w, in the “2” column, (the “after”), write the standard condition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6934320" y="3581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.3 kP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7086600" y="4343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3 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HE KINETIC MOLECULAR THEORY OF GAS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… 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states that gas molec's </a:t>
            </a:r>
            <a:r>
              <a:rPr b="1" i="1" lang="en-US" sz="3200" spc="-1" strike="noStrike">
                <a:solidFill>
                  <a:srgbClr val="f8f8f8"/>
                </a:solidFill>
                <a:latin typeface="Tahoma"/>
              </a:rPr>
              <a:t>are very far apart and are in constant, random mo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kinetic energy = "energy of motion“ = KE = ½ mv</a:t>
            </a:r>
            <a:r>
              <a:rPr b="1" lang="en-US" sz="3200" spc="-1" strike="noStrike" baseline="30000">
                <a:solidFill>
                  <a:srgbClr val="f8f8f8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te:  </a:t>
            </a:r>
            <a:r>
              <a:rPr b="1" lang="en-US" sz="3200" spc="-1" strike="noStrike">
                <a:solidFill>
                  <a:srgbClr val="00ffff"/>
                </a:solidFill>
                <a:latin typeface="Tahoma"/>
              </a:rPr>
              <a:t>m = mass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 = velocit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HE KINETIC MOLECULAR THEORY OF GAS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gas molec's have </a:t>
            </a:r>
            <a:r>
              <a:rPr b="1" i="1" lang="en-US" sz="2800" spc="-1" strike="noStrike">
                <a:solidFill>
                  <a:srgbClr val="f8f8f8"/>
                </a:solidFill>
                <a:latin typeface="Tahoma"/>
              </a:rPr>
              <a:t>very low intermolecular F's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 of attraction &amp; </a:t>
            </a:r>
            <a:r>
              <a:rPr b="1" i="1" lang="en-US" sz="2800" spc="-1" strike="noStrike">
                <a:solidFill>
                  <a:srgbClr val="f8f8f8"/>
                </a:solidFill>
                <a:latin typeface="Tahoma"/>
              </a:rPr>
              <a:t>high K.E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the moving gas molec's undergo frequent collisions w/each other and w/the walls of their container; this exerts pressure or force of gaseous molec's that increases w/increasing 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at any given T, the </a:t>
            </a:r>
            <a:r>
              <a:rPr b="1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ave K.E. of all gas molec's is the same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. (so a gas with a smaller mass must be moving faster than a particle with a larger mass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LARGE MOLECULES vs. SMALL MOLECU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t any given T, the </a:t>
            </a:r>
            <a:r>
              <a:rPr b="1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ave K.E. of all gas molec's is the same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(per Avogadro)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herefore, KE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= KE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f gas a = H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&amp; gas b = O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, KE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H2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= KE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O2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or 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(mv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/2)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ahoma"/>
              </a:rPr>
              <a:t>H2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= (mv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/2) 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ahoma"/>
              </a:rPr>
              <a:t>O2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But H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weighs 2.02 g/mol and O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weighs 32 g/mol, </a:t>
            </a:r>
            <a:r>
              <a:rPr b="1" i="1" lang="en-US" sz="3200" spc="-1" strike="noStrike">
                <a:solidFill>
                  <a:srgbClr val="f8f8f8"/>
                </a:solidFill>
                <a:latin typeface="Tahoma"/>
              </a:rPr>
              <a:t>so that could only be true if what was true about gas v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GAS PRESSUR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ressure is force (F) per unit of area; any exertion of F applied to a definite area can be expressed as:        P = F/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n a closed container, gas exerts a measurable pressure on the walls of the containe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 increases as T increas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HY DOES AIR PRESSURE EXIS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2590920" y="1371600"/>
          <a:ext cx="60958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60958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4"/>
          <p:cNvSpPr/>
          <p:nvPr/>
        </p:nvSpPr>
        <p:spPr>
          <a:xfrm>
            <a:off x="533520" y="1447920"/>
            <a:ext cx="1904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ressure is due to all of the molecules in the column of air above your head all the way up to the edge of the atmospher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FFECTS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OF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IR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SUR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33520" y="4648320"/>
            <a:ext cx="5562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What you’re looking at is a tank car that has been crushed by air pressure. 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How might that have happened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0" name="Picture 7" descr="tanker"/>
          <p:cNvPicPr/>
          <p:nvPr/>
        </p:nvPicPr>
        <p:blipFill>
          <a:blip r:embed="rId1"/>
          <a:stretch/>
        </p:blipFill>
        <p:spPr>
          <a:xfrm>
            <a:off x="3124080" y="38088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5867280" y="5867280"/>
            <a:ext cx="289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ww.nsdl.arm.gov/ images/tanker.jpg</a:t>
            </a: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3:47:40Z</dcterms:created>
  <dc:creator>Marcie Thiessen</dc:creator>
  <dc:description/>
  <dc:language>en-US</dc:language>
  <cp:lastModifiedBy>Jill Luckey</cp:lastModifiedBy>
  <dcterms:modified xsi:type="dcterms:W3CDTF">2016-04-20T19:09:22Z</dcterms:modified>
  <cp:revision>105</cp:revision>
  <dc:subject/>
  <dc:title>Introduction to Stoichiometry</dc:title>
</cp:coreProperties>
</file>